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1A9A-A6F2-4AF8-B51D-978CC61EA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B3A4-A5B6-4AD6-B821-06AA3E497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2DF5-01E0-469C-9F68-123D78479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F3DF-1EA0-4EA7-BCFC-1E1F87A9F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6AAB-5775-4121-974D-C894848BE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4E3D-8DE9-4F91-B049-29AE188A5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33F6-CD9B-4E86-BADE-C8BAAB58D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EC87-A68A-4338-B443-5C9B1A492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E224-61AA-43BC-9892-C5617597C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65D8-692B-42EE-BF19-6A2E0143C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A9DE-6510-442E-8F50-9CFE4BC9E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F46A-BA37-41B9-980F-A03D7730B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90720"/>
            <a:ext cx="8686800" cy="563868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AB0-1AED-4743-989E-3288FF3F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996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 Narrow"/>
              </a:rPr>
              <a:t>Plan upisa u prvi razred šk. 2011./2012. g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907920"/>
          <a:ext cx="8893080" cy="5235840"/>
        </p:xfrm>
        <a:graphic>
          <a:graphicData uri="http://schemas.openxmlformats.org/drawingml/2006/table">
            <a:tbl>
              <a:tblPr/>
              <a:tblGrid>
                <a:gridCol w="976320"/>
                <a:gridCol w="2138400"/>
                <a:gridCol w="2592360"/>
                <a:gridCol w="1501560"/>
                <a:gridCol w="1684440"/>
              </a:tblGrid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Re</a:t>
                      </a:r>
                      <a:r>
                        <a:rPr b="1" lang="hr-HR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b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r</a:t>
                      </a:r>
                      <a:r>
                        <a:rPr b="1" lang="hr-HR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Područ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Program 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zanim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Razred</a:t>
                      </a:r>
                      <a:r>
                        <a:rPr b="1" lang="hr-HR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odj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Učen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imnaz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pć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ea1"/>
                    </a:solidFill>
                  </a:tcPr>
                </a:tc>
              </a:tr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konomija i trgov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mercija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ea1"/>
                    </a:solidFill>
                  </a:tcPr>
                </a:tc>
              </a:tr>
              <a:tr h="216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ojar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konomija i trgov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mehanič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doinstal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ava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ea1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gostitelj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 turiz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uh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onob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e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6:08:16Z</dcterms:created>
  <dc:creator>KORISNIK</dc:creator>
  <dc:description/>
  <dc:language>en-US</dc:language>
  <cp:lastModifiedBy>S.Š. Stjepan Ivšić</cp:lastModifiedBy>
  <dcterms:modified xsi:type="dcterms:W3CDTF">2011-06-08T11:40:36Z</dcterms:modified>
  <cp:revision>2</cp:revision>
  <dc:subject/>
  <dc:title>Plan upisa u prvi razred šk. 2010./2011. g.</dc:title>
</cp:coreProperties>
</file>